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AAA7-CFA9-4E94-B1E4-6AFE1366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2B6-845A-42E6-871E-8C70BC21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0A0-1D05-4D3F-9054-40A658EA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2CF-21D6-4C8E-8853-658478B2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4921-C11C-4624-99DB-847DEC9E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C2D27-644F-41A4-ADD8-DBAADC52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BC687-2B41-4252-8B35-278573FD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B3E61-B27E-4861-B10F-A87D9763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229DE-B778-44BA-968E-D2F1AB40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C18DE-F1DE-4801-B7C4-C9123BFF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978B7-6D72-484A-8523-ECA2240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025-01E5-41E8-8514-731AD4FA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C6D8D-1FB6-43C2-ACB9-773EA32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C6E05-04FB-477A-A6FF-5A520F4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E2E38-4A3C-4AC8-8248-1A3C573A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FDC61-EC7A-4BDC-A6EB-E8A1760C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47B29-F079-46EF-BBD9-A0B8BD6F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082-6ECE-4357-920A-98FF8D34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2C9-E6E5-4822-B9E6-13A97B64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0449-29B6-4B4E-8D89-35C0DB2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F2B-7899-42F1-BA48-C1BAFC73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710-8BFE-44B7-9B56-F1F766D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648-BFC4-48B9-8DA7-41C2F8E8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10D-DC8F-4933-B795-90D9C87D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4969-9934-47B1-B1A0-E3E77913E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2461-DE8D-4F74-84F3-62C4E985E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4524480" cy="5238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keletal System – Structure and Fun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y: Alec Droussio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477120" y="4457880"/>
            <a:ext cx="266688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2798640" cy="342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334120" y="30481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roducing Blood Cells and Storing Chemical Energ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roducing Blood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Red Bone Marrow inside the bones produces blood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d Blood Cells, White Blood Cells, and Platele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toring Chemical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ith the bone marrow ageing it changes from ‘red marrow’ to ‘yellow marrow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Yellow bone marrow is composed of adipose cells, and a few blood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is chemical change is very important for a functioning human bod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 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 Skeletal System is one of the most important systems used in the human bo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 creates many types of blood cells, stores these blood cells, protects internal organs, and assists in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ithout this system it would be difficult for a human being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95480" y="428004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67320" y="3048120"/>
            <a:ext cx="2776680" cy="3809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285768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334120" y="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keletal System: Main Points of Stru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ranium – Protects the 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ine – Allows the transport of brainwaves through the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ibs – Protect vital organs in the To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elvis – Allows the connection of the Legs to the To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he Skeletal System is a System of 206 b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334120" y="4037040"/>
            <a:ext cx="3809880" cy="2820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819520" cy="3124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019920" y="0"/>
            <a:ext cx="3124080" cy="2743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ypes of Bones in the Skeletal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Long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Bones that are greater length than width and are a variable of a number of extrem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hort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“cube shaped” and have equal length and wid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lat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thin shaped bones that provide considerable mechanical protection and extensive surfaces for muscle attach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879640" cy="3124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240600" y="2362320"/>
            <a:ext cx="290340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Types of Bones in the Skeletal System (continued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Irregular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Complicated shaped bones that are shaped due to the function i.e. the Vertebra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esamoid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Bones that form in tendons where there is a considerable amount of friction, tension, and physical stress; vary from person to per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utural Bones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– Very small bones located within the sutural joints between the cranial bones; vary from person to pers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2887560" cy="3276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943600" y="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nside of the Bon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one ma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d Marrow – consisting mainly of myeloid t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BCs, platelets, and most WBCs are developed  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Yellow Marrow – consisting mainly of fat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 WBCs develop in the yellow mar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ro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connective, functionally supportive framework of a biological cell, tissue, or org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352680" y="0"/>
            <a:ext cx="3429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781680" y="5195880"/>
            <a:ext cx="2362320" cy="166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781680" y="2895480"/>
            <a:ext cx="1435320" cy="2248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62600" y="1047600"/>
            <a:ext cx="2381400" cy="58104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unctions of the Skeletal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.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. Prot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.Assissitance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4. Storage of Miner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. Production of Blood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6. Storage of Chemical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7497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upport and Protectio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keleton is the framework of the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t supports the softer t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t provides points of attachment for most skeletal mus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ovides mechanical protection for many of the body’s internal org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ones reduced the risk of injury to these org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76720" cy="2095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19720" y="3314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Assisting Movement and Storing Miner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ssisting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keletal Muscles are attached to b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en these Muscles contract they cause bones to m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toring Miner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ne tissues store several types of minerals, including calcium and phospho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one releases minerals into the blood when it is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is facilitates the balance of minerals in the bo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8:47:04Z</dcterms:created>
  <dc:creator>Alec Droussiotis</dc:creator>
  <dc:description/>
  <dc:language>en-US</dc:language>
  <cp:lastModifiedBy>Alec Droussiotis</cp:lastModifiedBy>
  <dcterms:modified xsi:type="dcterms:W3CDTF">2010-03-14T21:45:56Z</dcterms:modified>
  <cp:revision>14</cp:revision>
  <dc:subject/>
  <dc:title>Skeletal System – Structure and Function</dc:title>
</cp:coreProperties>
</file>